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F4D-0A3E-4398-AB75-35EE2CB0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3D1-EC6A-4D42-83EA-EC35BF32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242-F906-4FE0-9BCE-7DEE9C71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CAA-6C01-4A24-9A9F-58296B52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32EA-9433-47C5-854C-E3209E44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917A-2779-40EC-8C8B-8BBA7192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5DEF-16B8-4D2F-9BAD-555E022A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1D20-78E7-4764-8610-27DBAD52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B929-B1C1-4266-878C-F7BA5815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7580-16AD-4771-BDDA-C241C052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EC10-C82C-4658-B05E-C1966F8B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BCA-FAFE-42E8-B8F6-327C7AD3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8A11-FDE8-4518-904B-FA6467DB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B030-B6B2-4446-94DC-85B2A59E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40E2-7766-4DAE-9165-89915191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BDA9-C2BC-41C9-ACA3-62FE39FC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E7C0-7372-4A5B-AB11-E92CBA85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35BE7-8D9C-4D6F-9088-D24F93E3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87381-774D-4E65-AC44-509F8CEC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E5EE1-8DB0-4D1A-B803-81674A99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776D0-1C66-4926-8322-603EA458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828EB-0669-4410-8E6B-0ED324EA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5F4A-EA7B-4040-AFEB-0FD8CD61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3B11D-DDBB-4DBF-9AC1-19C3AF35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E711C-2501-48E1-8EF1-ACDE77C4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55C24-7C5F-4667-8D5C-96E6B251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8A9E9-7B88-441E-8451-C3DD2457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42DB6-5016-4D87-8757-9F8556CA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04AB1-4C00-428E-87D1-F41BBAE0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32AFD-FF00-4727-B111-5C66F97D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F1F38-4774-4794-8D15-51C91DB9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559D6-AA63-455B-9C36-7CDD05D4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19347-FA18-4CC6-BE7A-D6D07CF2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FA3E-0BAB-4D1B-BF55-576052C1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1D679-80ED-4D63-AFCB-5E400562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18765-0EF4-4DC7-B9B7-C1E295AD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3AF2C-5B6E-48C3-9BE9-5A0E4B4B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9F64E-4871-4361-B7D3-76553B99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E49D0-912E-4062-BAEA-5B656D4B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6CFB0-3FE4-4BFC-83A2-C59A4674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BD513-BEDB-42DE-AA26-5F81577E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39F55-5823-418A-8F68-F3FC1B21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C0FB9-557D-4472-84D5-CDC2600A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B06D2-A3C6-48F4-AD5A-C1925053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8607-DCB8-4AA7-B00F-7F34275D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313E0-EE04-41AE-A473-26CF421A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43642-E7CA-41DB-B16C-194066A4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64A6D-EC8D-4B10-AC3B-E15B7C4B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4EED1-DDA9-422A-BF39-E40EBF3A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D2609-EC7F-4E4F-AFC7-6BA4AEEA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6366D-4A51-4C7A-A2CC-5345FBE9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F5AE9-2C05-4033-8237-0C5ABFBE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90524-E64C-41D4-A3BA-E69E52B7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514E0-6C5A-4620-92CF-0A22DC07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D75AD-5919-4C21-AD99-86C66842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7184-FCBA-47CF-902C-06ADC406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7FC31-BC37-493A-9877-C4D1E50B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C44A5-DEFF-417E-9C45-8EAF9025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018E3-FF34-483A-B94E-718C945F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9E3F4-B0C0-4E76-9745-FAD07D18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D63D4-721F-4967-8A57-42374A7D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2F2A0-58EF-43F8-B067-43F00996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DF698-0D6E-4958-8B70-63C2C762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AB1FF-0A06-4858-A5FE-A31D4545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B6F14-773E-4D4E-A84E-F3BB0E11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3A00C-A666-46BA-800C-094A99A6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60D-7415-40F1-B45F-A784B808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FEAA5-2E1E-4139-93D6-0CC6BD0A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B6694-7ABA-453B-B8EB-299ADF39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0ADE1-84F2-4F94-AB2F-DC1069C9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D5942-56AD-4B64-B272-E83D82EA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56908-4D55-4E54-8606-C3587439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ED7C4-58CA-45E7-90EB-E77C3FA9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A80BB-88D8-4B91-B523-FDC6BD99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7B28C-CFD0-40DE-A614-EC79C993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6769D-D00D-4293-9A60-4B84EA03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F7045-3C7B-4D2E-95F3-3C1A86B6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E061-35D3-4CCD-8561-064A94AC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4110A-EDBC-404A-BD9E-35ED4A65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96CE5-624F-4BE3-8665-E0916176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B6BBC-46DD-455A-9E1F-A6FD443D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3F5F4-8064-4FBC-8EB1-E3023AE0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5022D-7F5B-45E2-9428-58EC2582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C50C-D4D9-4913-BAA7-02BCB907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115B-1156-4F7B-9FBD-05D3BE4858EA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9C76-571D-48DB-8FF1-8A29B44DA824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F6A7-AC59-457D-AD0A-14DD8EFBCD10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7F68-D63D-423E-BD07-6F1AC8E4666A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8910-D015-4B84-9999-6CC5D919842E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95BF-4642-4E51-A41C-05FE62749559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402B-B03E-440E-99EA-6170BCD4EF0C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38160" y="0"/>
            <a:ext cx="9105840" cy="4649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图片1"/>
          <p:cNvPicPr/>
          <p:nvPr/>
        </p:nvPicPr>
        <p:blipFill>
          <a:blip r:embed="rId1"/>
          <a:stretch/>
        </p:blipFill>
        <p:spPr>
          <a:xfrm>
            <a:off x="838080" y="1279440"/>
            <a:ext cx="7391520" cy="5273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QQ截图20121228131942"/>
          <p:cNvPicPr/>
          <p:nvPr/>
        </p:nvPicPr>
        <p:blipFill>
          <a:blip r:embed="rId2"/>
          <a:stretch/>
        </p:blipFill>
        <p:spPr>
          <a:xfrm>
            <a:off x="1066680" y="533520"/>
            <a:ext cx="914400" cy="884160"/>
          </a:xfrm>
          <a:prstGeom prst="rect">
            <a:avLst/>
          </a:prstGeom>
          <a:ln w="0">
            <a:noFill/>
          </a:ln>
        </p:spPr>
      </p:pic>
      <p:sp>
        <p:nvSpPr>
          <p:cNvPr id="339" name="WordArt 6"/>
          <p:cNvSpPr txBox="1"/>
          <p:nvPr/>
        </p:nvSpPr>
        <p:spPr>
          <a:xfrm>
            <a:off x="2438280" y="609480"/>
            <a:ext cx="5639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华文彩云"/>
              </a:rPr>
              <a:t>英语教学课件系列</a:t>
            </a:r>
            <a:endParaRPr b="1" i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华文彩云"/>
              <a:ea typeface="华文彩云"/>
            </a:endParaRPr>
          </a:p>
        </p:txBody>
      </p:sp>
      <p:sp>
        <p:nvSpPr>
          <p:cNvPr id="340" name="WordArt 7"/>
          <p:cNvSpPr txBox="1"/>
          <p:nvPr/>
        </p:nvSpPr>
        <p:spPr>
          <a:xfrm rot="20562000">
            <a:off x="3352680" y="4267080"/>
            <a:ext cx="6098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Go</a:t>
            </a:r>
            <a:endParaRPr b="1" i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1" name="WordArt 8"/>
          <p:cNvSpPr txBox="1"/>
          <p:nvPr/>
        </p:nvSpPr>
        <p:spPr>
          <a:xfrm rot="21002400">
            <a:off x="4191120" y="4095360"/>
            <a:ext cx="5331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for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WordArt 9"/>
          <p:cNvSpPr txBox="1"/>
          <p:nvPr/>
        </p:nvSpPr>
        <p:spPr>
          <a:xfrm rot="20790600">
            <a:off x="4876560" y="3962520"/>
            <a:ext cx="5331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it!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43" name="WordArt 10" descr=""/>
          <p:cNvPicPr/>
          <p:nvPr/>
        </p:nvPicPr>
        <p:blipFill>
          <a:blip r:embed="rId3"/>
          <a:stretch/>
        </p:blipFill>
        <p:spPr>
          <a:xfrm>
            <a:off x="6997680" y="1816200"/>
            <a:ext cx="1701720" cy="482400"/>
          </a:xfrm>
          <a:prstGeom prst="rect">
            <a:avLst/>
          </a:prstGeom>
          <a:ln w="0">
            <a:noFill/>
          </a:ln>
        </p:spPr>
      </p:pic>
      <p:sp>
        <p:nvSpPr>
          <p:cNvPr id="344" name="Line 11"/>
          <p:cNvSpPr/>
          <p:nvPr/>
        </p:nvSpPr>
        <p:spPr>
          <a:xfrm>
            <a:off x="914400" y="1523880"/>
            <a:ext cx="731520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584d3"/>
                </a:solidFill>
                <a:latin typeface="Candara"/>
              </a:rPr>
              <a:t>Rewrite the following sentences using “so…that…”</a:t>
            </a:r>
            <a:endParaRPr b="0" lang="en-US" sz="3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04920" y="1143000"/>
            <a:ext cx="84582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584d3"/>
                </a:solidFill>
                <a:latin typeface="Times New Roman"/>
                <a:ea typeface="宋体"/>
              </a:rPr>
              <a:t>1.The camera cost very much. I didn’t buy 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584d3"/>
                </a:solidFill>
                <a:latin typeface="Times New Roman"/>
                <a:ea typeface="宋体"/>
              </a:rPr>
              <a:t>2.The trip cost very little. They all w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584d3"/>
                </a:solidFill>
                <a:latin typeface="Times New Roman"/>
                <a:ea typeface="宋体"/>
              </a:rPr>
              <a:t>3.Ed lent me an umbrella </a:t>
            </a:r>
            <a:r>
              <a:rPr b="1" lang="zh-CN" sz="3000" spc="-1" strike="noStrike">
                <a:solidFill>
                  <a:srgbClr val="4584d3"/>
                </a:solidFill>
                <a:latin typeface="Times New Roman"/>
                <a:ea typeface="宋体"/>
              </a:rPr>
              <a:t>（以便我不会在雨中淋湿</a:t>
            </a:r>
            <a:r>
              <a:rPr b="1" lang="zh-CN" sz="3000" spc="-1" strike="noStrike">
                <a:solidFill>
                  <a:srgbClr val="4584d3"/>
                </a:solidFill>
                <a:latin typeface="Times New Roman"/>
                <a:ea typeface="宋体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584d3"/>
                </a:solidFill>
                <a:latin typeface="Times New Roman"/>
                <a:ea typeface="宋体"/>
              </a:rPr>
              <a:t>4.Miyoko bought a camera (</a:t>
            </a:r>
            <a:r>
              <a:rPr b="1" lang="zh-CN" sz="3000" spc="-1" strike="noStrike">
                <a:solidFill>
                  <a:srgbClr val="4584d3"/>
                </a:solidFill>
                <a:latin typeface="Times New Roman"/>
                <a:ea typeface="宋体"/>
              </a:rPr>
              <a:t>以便她能在北京拍照</a:t>
            </a:r>
            <a:r>
              <a:rPr b="1" lang="zh-CN" sz="3000" spc="-1" strike="noStrike">
                <a:solidFill>
                  <a:srgbClr val="4584d3"/>
                </a:solidFill>
                <a:latin typeface="Times New Roman"/>
                <a:ea typeface="宋体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532080" y="1600200"/>
            <a:ext cx="784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宋体"/>
              </a:rPr>
              <a:t>The camera cost </a:t>
            </a:r>
            <a:r>
              <a:rPr b="1" lang="zh-CN" sz="3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so much that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宋体"/>
              </a:rPr>
              <a:t> I didn’t buy 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612720" y="2514600"/>
            <a:ext cx="654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宋体"/>
              </a:rPr>
              <a:t>The trip cost </a:t>
            </a:r>
            <a:r>
              <a:rPr b="1" lang="zh-CN" sz="3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so little that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宋体"/>
              </a:rPr>
              <a:t> they all w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685440" y="3962520"/>
            <a:ext cx="7771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宋体"/>
              </a:rPr>
              <a:t>Ed lent me an umbrella </a:t>
            </a:r>
            <a:r>
              <a:rPr b="1" lang="zh-CN" sz="3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so that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宋体"/>
              </a:rPr>
              <a:t> I wouldn’t  g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宋体"/>
              </a:rPr>
              <a:t>wet in the r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609480" y="5486400"/>
            <a:ext cx="7941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宋体"/>
              </a:rPr>
              <a:t>Miyoko bought a camera </a:t>
            </a:r>
            <a:r>
              <a:rPr b="1" lang="zh-CN" sz="3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so that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宋体"/>
              </a:rPr>
              <a:t> she could tak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宋体"/>
              </a:rPr>
              <a:t> 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宋体"/>
              </a:rPr>
              <a:t>pictures in Beij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250920" y="1066680"/>
            <a:ext cx="8893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little boy saved every coin_________ he could buy his favorite b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e bought a digital camera online ______s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uld save a lot of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so that                         B. as soon as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no matter                   D. such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fine day it is today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es,the sunshine is__________beautiful that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’d like to go swimming in the se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How, such               B. What a, ver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How, so                   D. What a, 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6095880" y="990720"/>
            <a:ext cx="13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o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7316640" y="2057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1982520" y="3962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381960" y="304200"/>
            <a:ext cx="43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Excises about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so that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380880" y="533520"/>
            <a:ext cx="82296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当球迷们看到贝克汉姆的时候，他们如此激动以致于大喊大叫。（根据中文意思完成句子， 每空一词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the football fans saw Beckham, they got______ excited _______they cried 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The camera is ______expensive__________ I can't afford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. so, that                 B. such,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. so, as to                D. enough,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1289880" y="304812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o                     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3811320" y="3657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2410560" y="981000"/>
            <a:ext cx="299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宋体"/>
              </a:rPr>
              <a:t>Home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830160" y="2133720"/>
            <a:ext cx="804420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se your own words to retell a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actice more excises about unless, as so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s and so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WordArt 4"/>
          <p:cNvSpPr txBox="1"/>
          <p:nvPr/>
        </p:nvSpPr>
        <p:spPr>
          <a:xfrm>
            <a:off x="1676520" y="2438280"/>
            <a:ext cx="62481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9900"/>
                </a:solidFill>
                <a:latin typeface="华文行楷"/>
              </a:rPr>
              <a:t>Thank You!</a:t>
            </a:r>
            <a:endParaRPr b="0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9900"/>
              </a:solidFill>
              <a:latin typeface="华文行楷"/>
              <a:ea typeface="华文行楷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914400" y="1219320"/>
            <a:ext cx="7416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宋体"/>
              </a:rPr>
              <a:t>Unit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宋体"/>
              </a:rPr>
              <a:t>An old man tried to move the mountai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WordArt 6"/>
          <p:cNvSpPr txBox="1"/>
          <p:nvPr/>
        </p:nvSpPr>
        <p:spPr>
          <a:xfrm>
            <a:off x="2209680" y="4191120"/>
            <a:ext cx="496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Self Check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1066680" y="2057400"/>
            <a:ext cx="708660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We will be late unles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You won’t be successful unles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As soon as I got to the bus stop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Bill opened his book as soon a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The movie was so touching tha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 The boy was so excited that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458640" y="609480"/>
            <a:ext cx="74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Use your own ideas to complete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28080" y="1295280"/>
            <a:ext cx="895320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 will be late unless we run to school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 won’t be successful unless you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rd from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As soon as I got to the bus stop, I gave 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call to ask whether she had left alre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Bill opened his book as soon as he cam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609480" y="990720"/>
            <a:ext cx="7772400" cy="49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5. The movie was so touching that both of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s were sweeping for a lo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6. The boy was so excited that he could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hardly say a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380880" y="1676520"/>
            <a:ext cx="853452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nce upon a time, there_____ (be) an emper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e ______(love) buying and looking at clothes. One day, two brothers _____(come) to the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y ______(tell) the emperor that they could make beautiful clothes for him, but he must ______ (give) them silk and gold. The 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(be) bad people. They______ (keep) all the silk and gold for themselves. They tol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383760" y="457200"/>
            <a:ext cx="85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2. Fill in the blanks with the correct for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of the words in brack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4801680" y="1752480"/>
            <a:ext cx="8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143360" y="236232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l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4420080" y="297180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1677240" y="358128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609840" y="480060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534240" y="541008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5411160" y="541008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304920" y="609480"/>
            <a:ext cx="853416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mperor the clothes they made______ (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pecial because only clever people could____ (see) them. When the emperor____ (put) on the clothes, all he could see was his underw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ut he didn’t want people to ______ (thin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e was stupid, so he______ (say) the clothes were beautiful. Then he______ (walk)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ity in his new clothes until one boy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shout), “The emperor isn’t wearing any cloth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020640" y="68580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7240320" y="137160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5716080" y="198108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5563800" y="3200400"/>
            <a:ext cx="11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4039920" y="388620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4496400" y="457200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l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7086960" y="518148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ho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283680" y="456120"/>
            <a:ext cx="860796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根据括号中的提示，用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unless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完成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 won’t get there on time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(hurr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We can’t have a picnic 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it, a nice da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Don’t leave the TV on 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watch i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We can’t do the job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(get some hel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I won’t buy the picture__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like i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5713920" y="1447920"/>
            <a:ext cx="30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 you hu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1143360" y="1981080"/>
            <a:ext cx="15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p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4798440" y="2514600"/>
            <a:ext cx="39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 it is a nice 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4722120" y="3429000"/>
            <a:ext cx="367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 you watch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4341600" y="4343400"/>
            <a:ext cx="33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 we can g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1067040" y="4876920"/>
            <a:ext cx="19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ome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4875480" y="5410080"/>
            <a:ext cx="32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 you like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611280" y="456840"/>
            <a:ext cx="78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Complete the sentence with if or unl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533520" y="1219320"/>
            <a:ext cx="8229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hel will be pleased ________she passe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 driving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bus won’t stop______ you ring the b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I can’t read your writing ______you print i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Emma will be upset ________she doesn’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he jo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You can’t go inside the cinema_______ you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a ti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Don’t bother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打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to ring me _______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something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5259600" y="11430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4268160" y="213372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5411160" y="266688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4954680" y="35812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6478200" y="457200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6173280" y="548640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will</cp:lastModifiedBy>
  <dcterms:modified xsi:type="dcterms:W3CDTF">2016-03-25T02:55:09Z</dcterms:modified>
  <cp:revision>2</cp:revision>
  <dc:subject/>
  <dc:title>PowerPoint 演示文稿</dc:title>
</cp:coreProperties>
</file>